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F460D-EBEF-457B-97C7-357428B711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37CD9-6DF7-4882-8C55-B8D28125A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9FE03-89DD-4042-904A-D3D29B7C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7B2BF-C5F3-490E-88F4-374CECCE79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5C0F7-7DD8-4A8D-8811-2B5BA167A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6A7F2-4F4D-4EB5-958A-1BF9CBB92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59F59-72B6-4305-A384-FD9CA6D59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C827B-546D-46EE-8D9B-2E8E7FC74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953CD-2AE4-47DC-884E-D10B5768B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FC1F1-591C-48FA-8118-19F05A685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7DD68-AF7A-4387-BE80-0E825C9D4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8476D-66F2-437D-8145-BC90085AD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D967C-A00A-4C8A-BBB2-F26DBCA7484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78501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宋体"/>
              </a:rPr>
              <a:t>第三十章    降血糖药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628640"/>
            <a:ext cx="79106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低血糖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血糖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&lt; 2.77mmol/L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致死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及早发现，严重者立即注射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50%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葡萄糖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注意鉴别低血糖昏迷、酮症酸中毒昏迷及非酮症性糖尿病昏迷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过敏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胰岛素耐受性（胰岛素抵抗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局部反应：脂肪萎缩、女性多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 口服降血糖药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一、</a:t>
            </a:r>
            <a:r>
              <a:rPr b="0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磺酰脲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81080" y="1557360"/>
            <a:ext cx="88581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甲苯磺丁脲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tolbutamide, D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860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)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、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氯磺丙脲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chlorpropamide)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格列本脲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glibenclamide)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、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格列吡嗪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glipizide)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格列齐特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gliclazipe)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、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格列美脲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glimepride)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426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8064720" cy="33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口服易吸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血浆蛋白结合率高于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90%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i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/2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氯磺丙脲最长、约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36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小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主要在肝氧化成羟基化合物，从尿中排出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569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降血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内源性胰岛素释放增加（胰岛</a:t>
            </a:r>
            <a:r>
              <a:rPr b="0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细胞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提高靶细胞对胰岛素的敏感性，增强靶细胞上</a:t>
            </a:r>
            <a:r>
              <a:rPr b="0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INSR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的数目和亲和力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对水排泄的影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氯磺丙脲：促进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ADH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分泌 </a:t>
            </a: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→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抗利尿作用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对凝血功能的影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（第三代磺酰脲类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使血小板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黏附力下降、刺激纤溶酶原合成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→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抗凝血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4761000" cy="126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17440" y="1916280"/>
            <a:ext cx="69091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糖尿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胰岛功能尚存的非胰岛素依赖型糖尿病（饮 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食控制无效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对产生胰岛素耐受患者，可减少胰岛素用量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尿崩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磺丙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br>
              <a:rPr sz="3200"/>
            </a:b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000" y="1917360"/>
            <a:ext cx="8785080" cy="28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肠道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低血糖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枢神经系统症状     眩晕、嗜睡、共济失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过敏反应      荨麻疹、粒细胞减少，黄疸及肝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42560" y="1052640"/>
            <a:ext cx="720108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药物相互作用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9232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与其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他药物竞争结合血浆蛋白，使游离型药物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浓度上升引起低血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氯丙嗪、糖皮质激素（肝药酶诱导）合用，作用减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口服避孕药使胰岛素分泌功能下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乙醇抑制糖异生、肝葡萄糖输出，合用可造成低血糖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42920" y="907920"/>
            <a:ext cx="39607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二</a:t>
            </a:r>
            <a:r>
              <a:rPr b="1" lang="en-US" sz="4000" spc="-1" strike="noStrike">
                <a:solidFill>
                  <a:srgbClr val="046ca6"/>
                </a:solidFill>
                <a:latin typeface="Verdana"/>
                <a:ea typeface="宋体"/>
              </a:rPr>
              <a:t>. </a:t>
            </a:r>
            <a:r>
              <a:rPr b="0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双胍类</a:t>
            </a:r>
            <a:br>
              <a:rPr sz="48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71640" y="184464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促进葡萄糖无氧酵解和利用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减慢肠道对葡萄糖的吸收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减少肝内糖异生和葡萄糖的生成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增强机体对胰岛素的敏感性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减少胰高血糖素释放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7128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轻症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型糖尿病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不良反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胃肠道反应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乳酸血症及酮血症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280" y="549360"/>
            <a:ext cx="8388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三、胰岛素增敏剂</a:t>
            </a:r>
            <a:br>
              <a:rPr sz="3600"/>
            </a:b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(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针对胰岛素抵抗，提高机体对胰岛素敏感性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28036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噻唑烷酮类化合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罗格列酮、吡格列酮、曲格列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280" y="476280"/>
            <a:ext cx="80773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80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掌握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胰岛素及其制剂的药理作用、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和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熟悉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磺酰脲类、双胍类的药理作用、临床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用和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了解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胰岛素增敏药、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葡萄糖苷酶抑制药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作用特点、临床应用和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96360" y="691920"/>
            <a:ext cx="8496360" cy="57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药理作用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改善胰岛素抵抗、降低血糖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纠正脂质代谢紊乱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防治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型糖尿病血管并发症</a:t>
            </a:r>
            <a:br>
              <a:rPr sz="2800"/>
            </a:b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00000" y="764640"/>
            <a:ext cx="80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br>
              <a:rPr sz="4000"/>
            </a:br>
            <a:br>
              <a:rPr sz="4000"/>
            </a:b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产生胰岛素抵抗的</a:t>
            </a:r>
            <a:r>
              <a:rPr b="0" lang="en-US" sz="3200" spc="-1" strike="noStrike">
                <a:solidFill>
                  <a:srgbClr val="8ac8de"/>
                </a:solidFill>
                <a:latin typeface="华文中宋"/>
                <a:ea typeface="华文中宋"/>
              </a:rPr>
              <a:t>2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型糖尿病</a:t>
            </a:r>
            <a:br>
              <a:rPr sz="4000"/>
            </a:b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2360" y="3141720"/>
            <a:ext cx="8615520" cy="31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华文中宋"/>
                <a:ea typeface="华文中宋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不良反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嗜睡、肌肉及骨骼痛、头痛、消化道症状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曲格列酮明显肝毒性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四、</a:t>
            </a:r>
            <a:r>
              <a:rPr b="1" lang="el-GR" sz="3600" spc="-1" strike="noStrike">
                <a:solidFill>
                  <a:srgbClr val="046ca6"/>
                </a:solidFill>
                <a:latin typeface="Verdana"/>
                <a:ea typeface="Times New Roman"/>
              </a:rPr>
              <a:t>α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 -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葡萄糖苷酶抑制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687240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新型口服降糖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在小肠上皮刷状缘与碳水化合物竞争</a:t>
            </a:r>
            <a:r>
              <a:rPr b="0" lang="el-GR" sz="2400" spc="-1" strike="noStrike">
                <a:solidFill>
                  <a:srgbClr val="8ac8de"/>
                </a:solidFill>
                <a:latin typeface="Arial"/>
                <a:ea typeface="Times New Roman"/>
              </a:rPr>
              <a:t>α</a:t>
            </a:r>
            <a:r>
              <a:rPr b="0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 -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葡萄糖苷酶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，使葡萄糖生成减少、葡萄糖吸收延缓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服药期间增加碳水化合物的比例，并限制单糖摄入量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8360" y="406080"/>
            <a:ext cx="807732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糖尿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病率在全球范围内呈上升趋势，成为全世界发病率、致残率、死亡率都高的疾病之一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型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胰岛素依赖性糖尿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 IDDM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自身免疫性疾病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–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胞破坏，胰岛素分泌缺乏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型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胰岛素依赖性糖尿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 NIDDM)    95%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上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胞功能低下，胰岛素相对缺乏、胰岛素抵抗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INR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   胰岛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结构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分子量为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宋体"/>
              </a:rPr>
              <a:t>56kD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的酸性蛋白质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两条多肽链以二硫键共价相连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链有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1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氨基酸残基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链有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氨基酸残基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6720" y="333000"/>
            <a:ext cx="7831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17120" y="1701720"/>
            <a:ext cx="82486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口服无效，必须注射给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代谢快，</a:t>
            </a:r>
            <a:r>
              <a:rPr b="1" i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/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仅为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分钟， 但作用可维持数小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主要在肝、肾灭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中、长效制剂延长作用时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中、长效制剂均为混悬剂，不可静脉注射）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-25560" y="914400"/>
            <a:ext cx="91360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药理作用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物质代谢过程广泛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糖代谢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增加葡萄糖转运，加速氧化和酵解，促进糖原合成     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贮存，抑制糖原分解和异生，降低血糖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脂肪代谢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合成增加，分解减少，脂肪酸转运增加，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FA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酮体生成减少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蛋白质代谢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合成增加，分解减少，促进生长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离子转运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激活钠、钾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 ATP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酶，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K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流增加，胞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K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浓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增加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6360" y="909720"/>
            <a:ext cx="8804160" cy="53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116000" y="981000"/>
          <a:ext cx="7416720" cy="5518080"/>
        </p:xfrm>
        <a:graphic>
          <a:graphicData uri="http://schemas.openxmlformats.org/drawingml/2006/table">
            <a:tbl>
              <a:tblPr/>
              <a:tblGrid>
                <a:gridCol w="762120"/>
                <a:gridCol w="1422360"/>
                <a:gridCol w="993600"/>
                <a:gridCol w="1059120"/>
                <a:gridCol w="1058760"/>
                <a:gridCol w="1058760"/>
                <a:gridCol w="1062000"/>
              </a:tblGrid>
              <a:tr h="316080">
                <a:tc gridSpan="7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          </a:t>
                      </a:r>
                      <a:r>
                        <a:rPr b="1" lang="zh-CN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                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常用胰岛素制剂的特性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类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药物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注射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途径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作用时间（小时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给药时间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开始       高峰          维持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236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短效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普通胰岛素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静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立即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急救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5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5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小时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~4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4240"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中效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低精蛋白锌胰岛素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饭或晚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~6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钟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~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珠蛋白锌胰岛素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饭或晚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~6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钟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~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胰岛素锌混悬液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饭或晚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钟，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长效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鱼精蛋白锌胰岛素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~6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钟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结晶胰岛素锌悬液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  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6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钟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3809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7640" y="1294920"/>
            <a:ext cx="90010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糖尿病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3200" spc="-1" strike="noStrike">
                <a:solidFill>
                  <a:srgbClr val="8ac8de"/>
                </a:solidFill>
                <a:latin typeface="华文中宋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型糖尿病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IDDM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）、 非胰岛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依赖型糖尿病经饮食控制及口服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糖药未能控制者、 伴急性代谢并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症糖尿病、伴合并症糖尿病、 继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性糖尿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54160" y="1198080"/>
            <a:ext cx="889128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细胞内缺钾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由胰岛素、葡萄糖与氯化钾按一定比例配成极化液，纠正细胞</a:t>
            </a:r>
            <a:r>
              <a:rPr b="1" lang="zh-CN" sz="3200" spc="-1" strike="noStrike">
                <a:solidFill>
                  <a:srgbClr val="8ac8de"/>
                </a:solidFill>
                <a:latin typeface="华文中宋"/>
                <a:ea typeface="华文中宋"/>
              </a:rPr>
              <a:t>内缺</a:t>
            </a:r>
            <a:r>
              <a:rPr b="1" lang="en-US" sz="3200" spc="-1" strike="noStrike">
                <a:solidFill>
                  <a:srgbClr val="8ac8de"/>
                </a:solidFill>
                <a:latin typeface="华文中宋"/>
                <a:ea typeface="华文中宋"/>
              </a:rPr>
              <a:t>K</a:t>
            </a:r>
            <a:r>
              <a:rPr b="1" lang="en-US" sz="3200" spc="-1" strike="noStrike" baseline="30000">
                <a:solidFill>
                  <a:srgbClr val="8ac8de"/>
                </a:solidFill>
                <a:latin typeface="华文中宋"/>
                <a:ea typeface="华文中宋"/>
              </a:rPr>
              <a:t>+ </a:t>
            </a:r>
            <a:r>
              <a:rPr b="1" lang="zh-CN" sz="3200" spc="-1" strike="noStrike">
                <a:solidFill>
                  <a:srgbClr val="8ac8de"/>
                </a:solidFill>
                <a:latin typeface="华文中宋"/>
                <a:ea typeface="华文中宋"/>
              </a:rPr>
              <a:t>；</a:t>
            </a: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提供能量，防治心律失常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高钾血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6-03-11T02:37:51Z</dcterms:modified>
  <cp:revision>3</cp:revision>
  <dc:subject/>
  <dc:title>   第三十章    降血糖药</dc:title>
</cp:coreProperties>
</file>